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03BC-0E81-4F5A-A845-427F9F660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A425-21C0-4FB1-9245-903039DCF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392C-F0D9-436B-A9C1-A7A06A2F6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508F-5288-40EC-B75D-07D4F234C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D914B-CDA0-45A6-823F-2F402760E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790E5-F540-4399-93FA-77E7E3ED1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131F1-DE50-4460-B679-614FFEA1F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044D1-A8EA-4AA5-86AF-DD981585B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DA356-C307-479A-B307-7C73F9389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A265A-30BB-4EF0-8B7A-FB5C0F552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3D20B-BD1B-4E82-B22D-45907DBD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6028-B0F0-4F79-AD2D-38299C95A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1DF7F-41A5-49DE-8030-C7A6EE17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CF8B2-0647-442B-937E-EBB72D97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2DFA9-5C63-43B8-8BB9-9B9EA75EA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C288E-CCE6-41DA-9BD5-8CDA440B9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EBB65-4F1D-42FB-B72D-694E03319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1FED-B9D8-4264-80BD-F5B7A1144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98CA-4FCD-4BB5-B179-1F25021B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9A60-A40F-46ED-9DE4-7A7D2566B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0C1C-FB41-49D4-A397-BF6E91E62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88CE-068B-4D0C-B828-78BABFC0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CF60-9252-4DEE-8A5F-52D83844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29DB-97DB-4553-9994-418651FE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4C4C0-85C6-4909-AF22-6E3A985DD6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73f8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5C5BA-BFFF-4098-BA35-EDCFD804C6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d9d9ff"/>
                </a:solidFill>
                <a:uFillTx/>
                <a:latin typeface="Comic Sans MS"/>
              </a:rPr>
              <a:t>Rhwygo tudalennau</a:t>
            </a:r>
            <a:endParaRPr b="1" lang="en-US" sz="32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11280" y="1481760"/>
            <a:ext cx="7705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Comic Sans MS"/>
              </a:rPr>
              <a:t>Petaech yn rhwygo’r tudalennau canlynol o lyfr, sawl tudalen fyddech chi yn rhwygo o’r llyfr 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Comic Sans MS"/>
              </a:rPr>
              <a:t>Y tudalennau yw 4, 5, 24, 47 a 48.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867280" y="3500280"/>
            <a:ext cx="3097440" cy="26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5T17:56:54Z</dcterms:created>
  <dc:creator>Carwyn</dc:creator>
  <dc:description/>
  <dc:language>en-US</dc:language>
  <cp:lastModifiedBy>Carwyn</cp:lastModifiedBy>
  <dcterms:modified xsi:type="dcterms:W3CDTF">2009-01-06T12:00:33Z</dcterms:modified>
  <cp:revision>3</cp:revision>
  <dc:subject/>
  <dc:title>Rhwygo tudalennau</dc:title>
</cp:coreProperties>
</file>